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ct" ContentType="image/x-pict"/>
  <Override PartName="/ppt/media/image14.png" ContentType="image/png"/>
  <Override PartName="/ppt/media/image6.pct" ContentType="image/x-pict"/>
  <Override PartName="/ppt/media/image9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1E5D-81D4-480C-BC17-74179C603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D43D-A137-4638-B481-AD76D2CE8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FF0C-9F11-4DA0-A24A-0A729FBF4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BF8F-C00C-4B9F-81C6-46D8214D3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B713-CE16-42D5-8A10-49AE8D653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BCDA-EB4A-4E5F-8889-016CA5D13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F5C3-70CD-495F-8DE8-E6E07CDC4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2FAB-1317-43E7-AF28-6CE9185AA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54BB-7604-4FB6-801D-3317C42F2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3E61-9710-4512-A3EB-DDA1A2DD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6B06-FF18-4E08-80ED-19EFAC77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7ACD-9EDA-4AB0-865F-8724AE59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54453-F31F-4A64-905B-B6D6D3966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52280" y="2286000"/>
            <a:ext cx="64008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4080"/>
                </a:solidFill>
                <a:latin typeface="Comic Sans MS"/>
              </a:rPr>
              <a:t>NZ Curriculum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408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4080"/>
                </a:solidFill>
                <a:latin typeface="Comic Sans MS"/>
              </a:rPr>
              <a:t>Key Competenci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408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4080"/>
                </a:solidFill>
                <a:latin typeface="Comic Sans MS"/>
              </a:rPr>
              <a:t>Where do we star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4080"/>
              </a:solidFill>
              <a:latin typeface="Comic Sans MS"/>
              <a:ea typeface="Comic Sans MS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477120" y="304920"/>
            <a:ext cx="2438280" cy="1643040"/>
          </a:xfrm>
          <a:prstGeom prst="rect">
            <a:avLst/>
          </a:prstGeom>
          <a:ln w="0">
            <a:solidFill>
              <a:srgbClr val="ffffff"/>
            </a:solidFill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952880" y="5410080"/>
            <a:ext cx="3940200" cy="1128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62120" y="5105520"/>
            <a:ext cx="2052360" cy="1539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609480" y="380880"/>
            <a:ext cx="4272120" cy="1306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7010280" y="3019320"/>
            <a:ext cx="1986120" cy="17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38080" y="380880"/>
            <a:ext cx="7772400" cy="6248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29000" y="457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914400"/>
            <a:ext cx="7238880" cy="5715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657600" y="990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ing 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2480" y="1676520"/>
            <a:ext cx="4419720" cy="3352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90920" y="220968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ipating &amp; Contribu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43200" y="3352680"/>
            <a:ext cx="3962520" cy="2514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525780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Language, symbols and tex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274320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ating to oth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2133720"/>
            <a:ext cx="3962520" cy="2514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3124080"/>
            <a:ext cx="8686800" cy="15721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ills and attitu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600200" y="762120"/>
            <a:ext cx="4027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4080"/>
                </a:solidFill>
                <a:latin typeface="Arial Black"/>
              </a:rPr>
              <a:t>Weber Schoo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4080"/>
              </a:solidFill>
              <a:latin typeface="Arial Black"/>
              <a:ea typeface="Arial Black"/>
            </a:endParaRPr>
          </a:p>
        </p:txBody>
      </p:sp>
      <p:pic>
        <p:nvPicPr>
          <p:cNvPr id="96" name="Macintosh HD:Users:jill:Downloads:keycompetenciessmall.mov" descr=""/>
          <p:cNvPicPr/>
          <p:nvPr/>
        </p:nvPicPr>
        <p:blipFill>
          <a:blip r:embed="rId1"/>
          <a:stretch/>
        </p:blipFill>
        <p:spPr>
          <a:xfrm>
            <a:off x="3048120" y="2438280"/>
            <a:ext cx="350676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5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7620120" cy="4708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914400" y="5089680"/>
            <a:ext cx="6705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Z Curriculum On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</a:rPr>
              <a:t>http://nzcurriculum.tki.org.nz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 Competencies On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</a:rPr>
              <a:t>http://keycompetencies.tki.org.nz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rcRect l="0" t="0" r="0" b="5971"/>
          <a:stretch/>
        </p:blipFill>
        <p:spPr>
          <a:xfrm>
            <a:off x="1066680" y="228600"/>
            <a:ext cx="7620120" cy="4724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905120" y="1066680"/>
            <a:ext cx="5398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4080"/>
                </a:solidFill>
                <a:latin typeface="Arial Black"/>
              </a:rPr>
              <a:t>Current Understanding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4080"/>
              </a:solidFill>
              <a:latin typeface="Arial Black"/>
              <a:ea typeface="Arial Black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590920" y="2743200"/>
            <a:ext cx="3581280" cy="4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4080"/>
                </a:solidFill>
                <a:latin typeface="Arial Black"/>
              </a:rPr>
              <a:t>5 Ws and an 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4080"/>
              </a:solidFill>
              <a:latin typeface="Arial Black"/>
              <a:ea typeface="Arial Black"/>
            </a:endParaRPr>
          </a:p>
        </p:txBody>
      </p:sp>
      <p:sp>
        <p:nvSpPr>
          <p:cNvPr id="49" name=""/>
          <p:cNvSpPr/>
          <p:nvPr/>
        </p:nvSpPr>
        <p:spPr>
          <a:xfrm>
            <a:off x="1219320" y="39625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, when, where, why, who, h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209680" y="685800"/>
            <a:ext cx="4699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4080"/>
                </a:solidFill>
                <a:latin typeface="Arial Black"/>
              </a:rPr>
              <a:t>Mary Chamberlai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4080"/>
              </a:solidFill>
              <a:latin typeface="Arial Black"/>
              <a:ea typeface="Arial Black"/>
            </a:endParaRPr>
          </a:p>
        </p:txBody>
      </p:sp>
      <p:pic>
        <p:nvPicPr>
          <p:cNvPr id="51" name="Macintosh HD:Users:jill:Downloads:Mary Chamberlain1.mp4" descr=""/>
          <p:cNvPicPr/>
          <p:nvPr/>
        </p:nvPicPr>
        <p:blipFill>
          <a:blip r:embed="rId1"/>
          <a:stretch/>
        </p:blipFill>
        <p:spPr>
          <a:xfrm>
            <a:off x="4876920" y="2133720"/>
            <a:ext cx="4064040" cy="3047760"/>
          </a:xfrm>
          <a:prstGeom prst="rect">
            <a:avLst/>
          </a:prstGeom>
          <a:ln w="0">
            <a:noFill/>
          </a:ln>
        </p:spPr>
      </p:pic>
      <p:pic>
        <p:nvPicPr>
          <p:cNvPr id="52" name="Macintosh HD:Users:jill:Downloads:Mary Chamberlain2.mp4" descr=""/>
          <p:cNvPicPr/>
          <p:nvPr/>
        </p:nvPicPr>
        <p:blipFill>
          <a:blip r:embed="rId2"/>
          <a:stretch/>
        </p:blipFill>
        <p:spPr>
          <a:xfrm>
            <a:off x="228600" y="2133720"/>
            <a:ext cx="4064040" cy="3047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2438280" y="5638680"/>
            <a:ext cx="4114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4080"/>
                </a:solidFill>
                <a:latin typeface="Arial Black"/>
              </a:rPr>
              <a:t>Key Messag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408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33533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32564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676520" y="685800"/>
            <a:ext cx="6172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4080"/>
                </a:solidFill>
                <a:latin typeface="Arial Black"/>
              </a:rPr>
              <a:t>Unpacking Key Competenci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4080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295280" y="2286000"/>
            <a:ext cx="4699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4080"/>
                </a:solidFill>
                <a:latin typeface="Arial Black"/>
              </a:rPr>
              <a:t>Managing Self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4080"/>
              </a:solidFill>
              <a:latin typeface="Arial Black"/>
              <a:ea typeface="Arial Black"/>
            </a:endParaRPr>
          </a:p>
        </p:txBody>
      </p:sp>
      <p:sp>
        <p:nvSpPr>
          <p:cNvPr id="56" name=""/>
          <p:cNvSpPr/>
          <p:nvPr/>
        </p:nvSpPr>
        <p:spPr>
          <a:xfrm>
            <a:off x="804960" y="3979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71600" y="4114800"/>
            <a:ext cx="6705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es this involve?  Jot down your though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check the NZ Curriculum document - what other aspects had you left out? P.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58000" y="1828800"/>
            <a:ext cx="183528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676520" y="685800"/>
            <a:ext cx="6172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4080"/>
                </a:solidFill>
                <a:latin typeface="Arial Black"/>
              </a:rPr>
              <a:t>Unpacking Key Competenci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4080"/>
              </a:solidFill>
              <a:latin typeface="Arial Black"/>
              <a:ea typeface="Arial Black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057400" y="2438280"/>
            <a:ext cx="46990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4080"/>
                </a:solidFill>
                <a:latin typeface="Arial Black"/>
              </a:rPr>
              <a:t>Managing Self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4080"/>
              </a:solidFill>
              <a:latin typeface="Arial Black"/>
              <a:ea typeface="Arial Black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33520" y="3352680"/>
            <a:ext cx="8204040" cy="1254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133720" y="502920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</a:rPr>
              <a:t>Managing Self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2209680" y="762120"/>
            <a:ext cx="4699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4080"/>
                </a:solidFill>
                <a:latin typeface="Arial Black"/>
              </a:rPr>
              <a:t>Managing Self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4080"/>
              </a:solidFill>
              <a:latin typeface="Arial Black"/>
              <a:ea typeface="Arial Black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371600" y="3200400"/>
            <a:ext cx="4191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Art Cost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Habits of Min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095880" y="2057400"/>
            <a:ext cx="279720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1676520" y="685800"/>
            <a:ext cx="6172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4080"/>
                </a:solidFill>
                <a:latin typeface="Arial Black"/>
              </a:rPr>
              <a:t>Unpacking Key Competenci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4080"/>
              </a:solidFill>
              <a:latin typeface="Arial Black"/>
              <a:ea typeface="Arial Black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057400" y="2438280"/>
            <a:ext cx="46990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4080"/>
                </a:solidFill>
                <a:latin typeface="Arial Black"/>
              </a:rPr>
              <a:t>Participating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408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4080"/>
                </a:solidFill>
                <a:latin typeface="Arial Black"/>
              </a:rPr>
              <a:t>and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408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4080"/>
                </a:solidFill>
                <a:latin typeface="Arial Black"/>
              </a:rPr>
              <a:t>Contribut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4080"/>
              </a:solidFill>
              <a:latin typeface="Arial Black"/>
              <a:ea typeface="Arial Black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105520" y="4648320"/>
            <a:ext cx="316044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676520" y="685800"/>
            <a:ext cx="6172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4080"/>
                </a:solidFill>
                <a:latin typeface="Arial Black"/>
              </a:rPr>
              <a:t>Unpacking Key Competenci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4080"/>
              </a:solidFill>
              <a:latin typeface="Arial Black"/>
              <a:ea typeface="Arial Black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666880" y="2743200"/>
            <a:ext cx="3936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4080"/>
                </a:solidFill>
                <a:latin typeface="Arial Black"/>
              </a:rPr>
              <a:t>Think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4080"/>
              </a:solidFill>
              <a:latin typeface="Arial Black"/>
              <a:ea typeface="Arial Black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629400" y="4191120"/>
            <a:ext cx="1646280" cy="1106280"/>
          </a:xfrm>
          <a:prstGeom prst="rect">
            <a:avLst/>
          </a:prstGeom>
          <a:ln w="0">
            <a:solidFill>
              <a:srgbClr val="000000"/>
            </a:solidFill>
          </a:ln>
        </p:spPr>
      </p:pic>
      <p:sp>
        <p:nvSpPr>
          <p:cNvPr id="72" name=""/>
          <p:cNvSpPr txBox="1"/>
          <p:nvPr/>
        </p:nvSpPr>
        <p:spPr>
          <a:xfrm>
            <a:off x="6477120" y="4952880"/>
            <a:ext cx="236196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408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Ryan's Thinkers Key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00408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33520" y="4648320"/>
            <a:ext cx="2124000" cy="14796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533520" y="2057400"/>
            <a:ext cx="812520" cy="1917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3657600" y="4876920"/>
            <a:ext cx="2082960" cy="11001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228600" y="3429000"/>
            <a:ext cx="236232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408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Hyerle's Thinking Map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00408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09480" y="6019920"/>
            <a:ext cx="236232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408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de Bono Thinking Hat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00408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581280" y="5943600"/>
            <a:ext cx="236232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408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Graphic organiser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00408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629400" y="2514600"/>
            <a:ext cx="1828800" cy="82548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ing 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819520"/>
            <a:ext cx="2133720" cy="64260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n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91320" y="4876920"/>
            <a:ext cx="1828800" cy="82548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ng to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4572000"/>
            <a:ext cx="2362320" cy="11912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ting and Contrib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29000" y="609480"/>
            <a:ext cx="1828800" cy="155700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Language, symbols and tex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9T17:34:41Z</dcterms:created>
  <dc:creator>Jill  Hammonds</dc:creator>
  <dc:description/>
  <dc:language>en-US</dc:language>
  <cp:lastModifiedBy>Jill  Hammonds</cp:lastModifiedBy>
  <dcterms:modified xsi:type="dcterms:W3CDTF">2010-05-09T19:07:39Z</dcterms:modified>
  <cp:revision>12</cp:revision>
  <dc:subject/>
  <dc:title>PowerPoint Presentation</dc:title>
</cp:coreProperties>
</file>